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8DC5-63CF-4320-A7A8-EBACC3D2B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6577-42F8-4E4F-AAB8-E29F14ABD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C75-1E93-485E-ABCF-5C38FC52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1CD-0F80-41E9-B180-24A01C57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0A9-0BB2-444A-97F2-198D63B4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DA5-5311-4257-9701-BB6BDD9D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32F-C353-4EF7-8E6F-0AE9B003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E2E-33BB-4E3D-B107-FDFB9DA2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7BA-7AEB-4D4C-B06B-2D9D1DA5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E18-AB90-4087-AE73-72F2521B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107-EB40-415B-8089-1818C701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E60B-B3FA-4609-873A-6A381B41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89B-BFA3-457E-AE5B-52251993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05F9-3663-4711-B1DE-EC235D3B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035E-A2CE-4C6A-BDCF-8DF63F4AB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hahmina Ham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hahmina Ham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hahmina Hami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447920" y="1752480"/>
            <a:ext cx="563868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Buenos días mis amigas.  Que haces¿ Donde estas¿  Como e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5720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27000" y="5410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429000"/>
            <a:ext cx="17524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Rhahmina. Vivo en NY. Yo tengo catorce años.  Yo soy simpática, bonita y divertidas. Yo tengo tres  hermanos, son fastidioso.  Tenemos dos inteligente pájaros. Adiós amigas!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60480" y="4876920"/>
            <a:ext cx="568080" cy="1085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743040" y="4876920"/>
            <a:ext cx="54288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4100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7117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950000"/>
            <a:ext cx="439560" cy="633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a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, Rhahmina!  Espero el bus.  Estoy aburrid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150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0958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7105680" y="4829040"/>
            <a:ext cx="1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7:15Z</dcterms:modified>
  <cp:revision>108</cp:revision>
  <dc:subject/>
  <dc:title>Profile</dc:title>
</cp:coreProperties>
</file>